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2E17-4A93-46F2-9948-BA9816252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DED1-4792-4F4D-B7CC-0B348C68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7B65-3808-4E9E-B35E-75ECD748E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0BFE-89E5-4194-A14A-D35D27525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4F9D-3589-4DF0-A7DC-CF71A128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2BF3-2720-4A6F-B442-A3671E8E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928A-E72C-43E9-AFB5-8B40B609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0059-9EB0-4931-B51E-26FE7706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FE2D-684A-43C5-B9EB-04E97EEF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95E1-B2D9-4DCA-9809-557F19FB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C70E-A9DB-40D5-ADC1-17C772D6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7B8A-7BE9-4711-8357-B759E626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00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B0AA-F78C-4585-A1B9-05F414787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00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838080"/>
            <a:ext cx="8153640" cy="4267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Cat And Mouse Gam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05120" y="2286000"/>
            <a:ext cx="59436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n You Win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4800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81480" y="5105520"/>
            <a:ext cx="321948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00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304920" y="3276720"/>
            <a:ext cx="3581280" cy="1371600"/>
          </a:xfrm>
          <a:prstGeom prst="rightArrow">
            <a:avLst>
              <a:gd name="adj1" fmla="val 50000"/>
              <a:gd name="adj2" fmla="val 652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3276720"/>
            <a:ext cx="3200400" cy="1371600"/>
          </a:xfrm>
          <a:prstGeom prst="leftArrow">
            <a:avLst>
              <a:gd name="adj1" fmla="val 50000"/>
              <a:gd name="adj2" fmla="val 58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3962520"/>
            <a:ext cx="1447920" cy="2590560"/>
          </a:xfrm>
          <a:prstGeom prst="upArrow">
            <a:avLst>
              <a:gd name="adj1" fmla="val 50000"/>
              <a:gd name="adj2" fmla="val 741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0400" y="1066680"/>
            <a:ext cx="1447920" cy="289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520" y="228600"/>
            <a:ext cx="792468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ow It Is Time To Play.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1981080"/>
            <a:ext cx="2438640" cy="876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876920" y="1905120"/>
            <a:ext cx="1981080" cy="1028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n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952880" y="4952880"/>
            <a:ext cx="3200400" cy="952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ous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4952880"/>
            <a:ext cx="1447560" cy="137160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646 0.05179 C 0.17291 0.28763 0.48177 0.52347 0.59722 0.49572 C 0.71232 0.46798 0.64826 0.00924999999999999 0.55555 -0.11468 C 0.46215 -0.23861 0.15104 -0.25341 0.03871 -0.24786 C -0.07379 -0.24231 -0.15712 -0.13318 -0.11945 -0.08139 C -0.08212 -0.0296 0.17899 -0.00185 0.26371 0.06289 C 0.34843 0.12763 0.42343 0.23306 0.38871 0.30705 C 0.35382 0.38104 0.14548 0.46983 0.05538 0.50682 C -0.03507 0.54381 -0.11563 0.59746 -0.15313 0.52902 C -0.19045 0.46058 -0.18646 0.19422 -0.16979 0.09618 C -0.15313 -0.00185 -0.1349 -0.05919 -0.05313 -0.05919 C 0.02899 -0.05919 0.20694 0.03144 0.32205 0.09618 C 0.4375 0.16092 0.57066 0.35514 0.63871 0.32925 C 0.70677 0.30335 0.73159 0.04994 0.73021 -0.05919 C 0.72916 -0.16832 0.65937 -0.27191 0.63038 -0.32555 C 0.60121 -0.37919 0.59722 -0.37179 0.55555 -0.38104 C 0.51389 -0.39029 0.40659 -0.42173 0.38021 -0.38104 C 0.35382 -0.34035 0.40833 -0.20717 0.39705 -0.13688 C 0.38593 -0.06659 0.38021 0.05549 0.31389 0.04069 C 0.24687 0.0259 0.05104 -0.13133 -0.00278 -0.22566 C -0.05695 -0.32 0.01649 -0.51792 -0.01146 -0.52532 C -0.03907 -0.53272 -0.12813 -0.3237 -0.16979 -0.27006 C -0.21146 -0.21642 -0.30417 -0.25341 -0.26129 -0.20347 C -0.21841 -0.15353 -0.01407 -0.06474 0.08871 0.0296 C 0.19166 0.12393 0.32066 0.40139 0.35538 0.36254 C 0.3901 0.3237 0.33732 -0.08879 0.29687 -0.20347 C 0.25677 -0.31815 0.14444 -0.36809 0.11389 -0.32555 C 0.08298 -0.28301 0.03159 -0.0185 0.11389 0.05179 C 0.19566 0.12208 0.53732 0.15353 0.60538 0.09618 C 0.67361 0.03884 0.53194 -0.28486 0.52222 -0.29225 C 0.51215 -0.29965 0.53316 -0.05364 0.54705 0.05179 C 0.56093 0.15723 0.6276 0.28116 0.60538 0.34035 C 0.58298 0.39954 0.44427 0.44948 0.41371 0.40694 C 0.38298 0.36439 0.38177 0.13873 0.42222 0.08509 C 0.46215 0.03144 0.71093 0.12393 0.65538 0.08509 C 0.6 0.04624 0.19166 -0.19792 0.08871 -0.14798 C -0.01407 -0.09803 0.0901 0.32 0.03871 0.38474 C -0.0125 0.44948 -0.18195 0.34405 -0.21962 0.24046 C -0.25712 0.13688 -0.1849 -0.27931 -0.18646 -0.23676 C -0.18785 -0.19422 -0.28473 0.40139 -0.22813 0.49572 C -0.17118 0.59006 0.06666 0.32925 0.15538 0.32925 C 0.24409 0.32925 0.26215 0.48832 0.30538 0.49572 C 0.34843 0.50312 0.37604 0.37364 0.41371 0.37364 C 0.45121 0.37364 0.49566 0.49942 0.53021 0.49572 C 0.56493 0.49202 0.59722 0.35699 0.62187 0.35144 C 0.64705 0.3459 0.67205 0.47538 0.68038 0.46243 C 0.68871 0.44948 0.69843 0.3163 0.67205 0.27376 C 0.64566 0.23121 0.52222 0.23861 0.52222 0.20717 C 0.52222 0.17572 0.68038 0.11838 0.67205 0.08509 C 0.66354 0.05179 0.46111 0.03884 0.47222 0.0074 C 0.48316 -0.02405 0.74548 -0.06659 0.73871 -0.10358 C 0.73159 -0.14058 0.44583 -0.17942 0.43055 -0.21457 C 0.4151 -0.24971 0.59722 -0.27931 0.64705 -0.31445 C 0.69705 -0.3496 0.73316 -0.40509 0.73021 -0.42543 C 0.72743 -0.44578 0.69843 -0.44393 0.63038 -0.43653 C 0.56232 -0.42913 0.40955 -0.41064 0.32205 -0.38104 C 0.23455 -0.35145 0.14444 -0.3422 0.10521 -0.25896 C 0.06666 -0.17572 0.12222 0.07954 0.08871 0.11838 C 0.05538 0.15723 -0.07223 0.03884 -0.09462 -0.0259 C -0.11667 -0.09064 -0.05018 -0.20347 -0.04479 -0.27006 C -0.03907 -0.33665 -0.02952 -0.39584 -0.06129 -0.42543 C -0.09306 -0.45503 -0.21146 -0.47168 -0.23629 -0.44763 C -0.26129 -0.42358 -0.24879 -0.33665 -0.21146 -0.28116 C -0.17379 -0.22566 -0.10556 -0.14058 -0.01146 -0.11468 C 0.08298 -0.08879 0.325 -0.07584 0.35538 -0.12578 C 0.38593 -0.17572 0.23194 -0.38104 0.17187 -0.41434 C 0.1125 -0.44763 0.00937 -0.35514 -0.00278 -0.32555 C -0.01545 -0.29595 0.05243 -0.28856 0.09722 -0.23676 C 0.14149 -0.18497 0.16771 -0.04994 0.26371 -0.0148 C 0.35937 0.02035 0.61093 -0.08509 0.67205 -0.0259 C 0.73316 0.03329 0.66788 0.26081 0.63038 0.34035 C 0.59305 0.41988 0.47222 0.47353 0.44687 0.45133 C 0.42222 0.42913 0.48576 0.27376 0.48055 0.20717 C 0.475 0.14058 0.50555 0.09249 0.41371 0.05179 C 0.32205 0.0111 0.01649 -0.04809 -0.06945 -0.03699 C -0.15556 -0.0259 -0.10712 0.03699 -0.10278 0.11838 C -0.09879 0.19977 -0.07223 0.45133 -0.04479 0.45133 C -0.01702 0.45133 0.05104 0.18682 0.06371 0.11838 C 0.07639 0.04994 0.03159 0.05734 0.03021 0.04069 C 0.02899 0.02405 -0.08056 0.09434 0.05538 0.0185 C 0.19166 -0.05734 0.84149 -0.40324 0.84722 -0.41434 C 0.85243 -0.42543 0.2276 -0.10173 0.08871 -0.04809 C -0.05018 0.00555 -0.00573 -0.14058 0.01371 -0.09249 C 0.03316 -0.04439 0.17482 0.24046 0.20538 0.24046 C 0.23576 0.24046 0.0875 0.01665 0.19705 -0.09249 C 0.30659 -0.20162 0.58541 -0.30798 0.86354 -0.41434 E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093 -0.42289 C -0.08871 -0.42659 -0.1184 -0.43468 -0.14027 -0.40601 C -0.14444 -0.39468 -0.14878 -0.38335 -0.15295 -0.37202 C -0.15746 -0.36 -0.15277 -0.30728 -0.14357 -0.28763 C -0.14114 -0.28254 -0.13698 -0.27954 -0.13402 -0.27491 C -0.12552 -0.26173 -0.12448 -0.25295 -0.1118 -0.24532 C -0.1085 -0.24347 -0.07882 -0.23723 -0.07691 -0.23676 C -0.06423 -0.23954 -0.05104 -0.24046 -0.03871 -0.24532 C -0.00659 -0.25803 0.00834 -0.31145 0.02153 -0.34682 C 0.02952 -0.40023 0.04723 -0.49434 0.01528 -0.53688 C 0.00365 -0.55237 -0.00746 -0.55422 -0.02291 -0.55815 C -0.04305 -0.55399 -0.06371 -0.55376 -0.08316 -0.54543 C -0.09097 -0.5422 -0.09635 -0.53225 -0.10225 -0.52439 C -0.13264 -0.48416 -0.14392 -0.43075 -0.15295 -0.37642 C -0.15902 -0.28994 -0.16007 -0.20902 -0.0927 -0.17341 C -0.08316 -0.1748 -0.07326 -0.17387 -0.06406 -0.17757 C -0.04635 -0.18474 -0.04479 -0.21318 -0.04184 -0.2326 C -0.04496 -0.25364 -0.04566 -0.27584 -0.05139 -0.29595 C -0.05711 -0.31607 -0.08559 -0.35838 -0.09583 -0.37202 C -0.15538 -0.4511 -0.2033 -0.47607 -0.28003 -0.4948 C -0.32639 -0.48601 -0.35868 -0.48647 -0.39427 -0.44809 C -0.39861 -0.41873 -0.40156 -0.40902 -0.39427 -0.37202 C -0.38698 -0.3348 -0.34861 -0.31838 -0.32448 -0.31283 C -0.28698 -0.32 -0.24705 -0.31491 -0.22291 -0.35931 C -0.21875 -0.36694 -0.21666 -0.37619 -0.21336 -0.38474 C -0.21232 -0.39329 -0.20955 -0.40162 -0.21024 -0.41017 C -0.21163 -0.4289 -0.21458 -0.44763 -0.21961 -0.4652 C -0.23177 -0.50659 -0.27152 -0.51607 -0.29913 -0.52 C -0.32031 -0.51723 -0.34184 -0.51838 -0.3625 -0.51168 C -0.40347 -0.4985 -0.42656 -0.44347 -0.44184 -0.39746 C -0.44288 -0.38613 -0.44635 -0.37503 -0.44514 -0.3637 C -0.43802 -0.29965 -0.41493 -0.28717 -0.37205 -0.27908 C -0.3592 -0.28116 -0.3368 -0.28301 -0.32448 -0.29179 C -0.30399 -0.30636 -0.2901 -0.33295 -0.28003 -0.35931 C -0.27326 -0.4141 -0.27899 -0.45341 -0.32135 -0.47353 C -0.32847 -0.47676 -0.33611 -0.4763 -0.34357 -0.47769 C -0.35312 -0.4763 -0.36302 -0.47723 -0.37205 -0.47353 C -0.4335 -0.44786 -0.47031 -0.37064 -0.4927 -0.29595 C -0.49514 -0.27237 -0.5 -0.23861 -0.47691 -0.22844 C -0.46875 -0.22474 -0.45989 -0.22543 -0.45139 -0.22405 C -0.4217 -0.22821 -0.39166 -0.22844 -0.3625 -0.23676 C -0.35191 -0.23977 -0.34357 -0.25133 -0.33402 -0.25803 C -0.30277 -0.28023 -0.27882 -0.29549 -0.26736 -0.34243 C -0.2684 -0.3452 -0.26805 -0.35145 -0.27048 -0.35098 C -0.28437 -0.34798 -0.28802 -0.33341 -0.29583 -0.32139 C -0.31111 -0.2978 -0.29913 -0.31815 -0.31493 -0.30012 C -0.31944 -0.29503 -0.3302 -0.27607 -0.32777 -0.28324 C -0.31875 -0.30728 -0.31805 -0.30451 -0.33402 -0.28324 C -0.33993 -0.26335 -0.34357 -0.25572 -0.34357 -0.2326 C -0.34357 -0.2141 -0.34392 -0.19538 -0.34027 -0.17757 C -0.33836 -0.16763 -0.33246 -0.16 -0.32777 -0.15214 C -0.30434 -0.11399 -0.27048 -0.10312 -0.23559 -0.09734 C -0.19062 -0.10474 -0.1802 -0.09318 -0.15955 -0.13965 C -0.15034 -0.20116 -0.18489 -0.26197 -0.22604 -0.28763 C -0.24791 -0.30127 -0.26614 -0.30127 -0.28958 -0.30451 C -0.31076 -0.30035 -0.33211 -0.2985 -0.35295 -0.29179 C -0.38281 -0.28208 -0.40104 -0.25387 -0.41961 -0.22405 C -0.42066 -0.2141 -0.42395 -0.20439 -0.42291 -0.19445 C -0.41145 -0.08509 -0.33611 -0.04994 -0.26406 -0.03815 C -0.20902 -0.0511 -0.21076 -0.03445 -0.19444 -0.08879 C -0.1901 -0.12254 -0.18698 -0.13202 -0.19739 -0.17341 C -0.20833 -0.21734 -0.24739 -0.23815 -0.27691 -0.24948 C -0.29705 -0.24809 -0.31736 -0.24994 -0.33715 -0.24532 C -0.37517 -0.23653 -0.40034 -0.19931 -0.41649 -0.15653 C -0.41545 -0.14798 -0.41649 -0.13873 -0.41354 -0.1311 C -0.39948 -0.09387 -0.37118 -0.07584 -0.34357 -0.06335 C -0.32552 -0.06474 -0.30711 -0.06266 -0.28958 -0.06775 C -0.27222 -0.07283 -0.2427 -0.11815 -0.23264 -0.13526 C -0.22586 -0.14636 -0.21909 -0.15723 -0.21336 -0.16925 C -0.20416 -0.18844 -0.18802 -0.22844 -0.18802 -0.22821 C -0.18611 -0.24069 -0.18107 -0.25827 -0.18802 -0.27052 C -0.18941 -0.27306 -0.19236 -0.26798 -0.19444 -0.26636 C -0.19861 -0.26243 -0.20312 -0.2585 -0.20694 -0.25364 C -0.21892 -0.23861 -0.23298 -0.22543 -0.24184 -0.20717 C -0.2658 -0.15792 -0.28698 -0.11769 -0.30225 -0.06335 C -0.3033 -0.05341 -0.30677 -0.04347 -0.30538 -0.03376 C -0.2993 0.01225 -0.28923 0.0148 -0.26093 0.02104 C -0.24514 0.01688 -0.2059 0.00971 -0.18802 -0.00416 C -0.14323 -0.03884 -0.1177 -0.06358 -0.09913 -0.12694 C -0.10121 -0.13387 -0.1 -0.1459 -0.10538 -0.14798 C -0.11389 -0.15145 -0.14236 -0.13341 -0.14982 -0.12694 C -0.17361 -0.10659 -0.19982 -0.07607 -0.21336 -0.04231 C -0.22222 -0.02058 -0.23559 0.02543 -0.23559 0.02566 C -0.2368 0.03815 -0.23993 0.05064 -0.23871 0.06335 C -0.23229 0.13087 -0.2217 0.15006 -0.17517 0.16069 C -0.16354 0.15931 -0.15156 0.16092 -0.14027 0.1563 C -0.12309 0.14913 -0.11059 0.11561 -0.10225 0.09711 C -0.09687 0.04717 -0.08993 0.00347 -0.11805 -0.03815 C -0.12951 -0.05503 -0.13524 -0.05572 -0.14982 -0.06335 C -0.171 -0.05919 -0.1927 -0.05873 -0.21336 -0.05087 C -0.22291 -0.04717 -0.23003 -0.03607 -0.23871 -0.0296 C -0.27899 0.00069 -0.3052 0.02243 -0.32135 0.08462 C -0.31927 0.09017 -0.31823 0.09711 -0.31493 0.1015 C -0.3085 0.11006 -0.29548 0.10312 -0.28958 0.1015 C -0.28073 0.08971 -0.27014 0.08301 -0.26093 0.07191 C -0.25416 0.06381 -0.24826 0.05503 -0.24184 0.04647 C -0.23871 0.04231 -0.23264 0.03376 -0.23264 0.03399 C -0.23038 0.0252 -0.22812 0.01688 -0.22604 0.00832 C -0.21701 -0.02775 -0.26441 -0.02728 -0.27691 -0.0296 C -0.29705 -0.02543 -0.31736 -0.02335 -0.33715 -0.01688 C -0.37812 -0.00324 -0.41406 0.03746 -0.42916 0.08879 C -0.425 0.10012 -0.42291 0.11329 -0.41649 0.12254 C -0.4026 0.14289 -0.35816 0.14566 -0.34027 0.14798 C -0.29392 0.14197 -0.23038 0.14613 -0.18802 0.10566 C -0.17691 0.09503 -0.16493 0.07376 -0.15625 0.05919 C -0.14323 -0.04139 -0.196 -0.09827 -0.26406 -0.11006 C -0.28524 -0.10728 -0.30677 -0.10705 -0.32777 -0.1015 C -0.33889 -0.0985 -0.34895 -0.09087 -0.35937 -0.08462 C -0.40607 -0.05665 -0.44444 -0.02451 -0.46111 0.04231 C -0.45451 0.05919 -0.446 0.05988 -0.43246 0.06335 C -0.41441 0.06058 -0.39618 0.05965 -0.37847 0.05503 C -0.37326 0.05364 -0.3368 0.03376 -0.3309 0.0296 C -0.29635 0.00578 -0.27257 -0.00902 -0.25139 -0.05087 C -0.25781 -0.07491 -0.25347 -0.07191 -0.28628 -0.05087 C -0.34409 -0.01387 -0.3927 0.04925 -0.41354 0.1311 C -0.41024 0.13942 -0.4085 0.14913 -0.40382 0.1563 C -0.39149 0.17503 -0.3533 0.16139 -0.34687 0.16069 C -0.3309 0.15237 -0.31892 0.14474 -0.30538 0.1311 C -0.3033 0.12694 -0.30173 0.12208 -0.29913 0.11838 C -0.29635 0.11468 -0.29166 0.11422 -0.28958 0.10983 C -0.28611 0.10243 -0.28316 0.08462 -0.28316 0.08486 C -0.2842 0.07746 -0.28298 0.06913 -0.28628 0.06335 C -0.28767 0.06081 -0.2908 0.06566 -0.2927 0.06751 C -0.29514 0.06983 -0.29722 0.07283 -0.29913 0.07607 C -0.31944 0.10936 -0.34253 0.14451 -0.35295 0.1859 C -0.34791 0.2215 -0.35399 0.21688 -0.32448 0.21133 C -0.321 0.19746 -0.31527 0.18728 -0.3118 0.17341 C -0.31389 0.15931 -0.31145 0.14243 -0.31805 0.1311 C -0.32135 0.12532 -0.32899 0.13272 -0.33402 0.13526 C -0.3408 0.1385 -0.34687 0.14312 -0.35295 0.14798 C -0.38125 0.16994 -0.4059 0.19306 -0.42916 0.22405 C -0.4302 0.22821 -0.43246 0.23237 -0.43246 0.23676 C -0.43246 0.27538 -0.40017 0.27306 -0.37847 0.27907 C -0.33385 0.27306 -0.29878 0.27815 -0.27361 0.22821 C -0.27465 0.20416 -0.2743 0.18012 -0.27691 0.1563 C -0.28055 0.12208 -0.31701 0.10381 -0.33715 0.09295 C -0.36041 0.09434 -0.38385 0.09272 -0.40694 0.09711 C -0.44218 0.10381 -0.4592 0.16162 -0.47048 0.19861 C -0.4743 0.22497 -0.47673 0.22636 -0.46736 0.2578 C -0.46527 0.26497 -0.45677 0.26405 -0.45139 0.26636 C -0.42066 0.26358 -0.40034 0.25988 -0.37205 0.25364 C -0.34323 0.23445 -0.35451 0.2437 -0.33715 0.22821 C -0.33281 0.21017 -0.32309 0.19422 -0.33402 0.17341 C -0.33784 0.16624 -0.35295 0.16486 -0.35295 0.16509 C -0.38663 0.17133 -0.40694 0.16948 -0.42916 0.20301 C -0.43368 0.20971 -0.43836 0.21642 -0.44184 0.22405 C -0.44687 0.23468 -0.45468 0.2578 -0.45468 0.25803 C -0.45364 0.26913 -0.45555 0.28185 -0.45139 0.29179 C -0.4493 0.29688 -0.44305 0.29595 -0.43871 0.29595 C -0.42066 0.29595 -0.40277 0.29318 -0.38472 0.29179 C -0.37725 0.2904 -0.36979 0.28948 -0.3625 0.2874 C -0.36024 0.28671 -0.35816 0.28486 -0.35625 0.28324 C -0.35503 0.28208 -0.35139 0.27907 -0.35295 0.27907 C -0.35538 0.27907 -0.35711 0.28208 -0.35937 0.28324 C -0.3625 0.28486 -0.36597 0.28601 -0.36909 0.2874 C -0.38836 0.31468 -0.35052 0.32694 -0.34027 0.32971 C -0.32118 0.32832 -0.30208 0.32786 -0.28316 0.32555 C -0.27882 0.32509 -0.27413 0.32439 -0.27048 0.32139 C -0.26545 0.31723 -0.25781 0.30428 -0.25781 0.30451 C -0.23767 0.22381 -0.31701 0.19815 -0.35937 0.19029 C -0.36909 0.19306 -0.37934 0.19283 -0.38802 0.19861 C -0.39097 0.20069 -0.39114 0.20694 -0.39114 0.21133 C -0.39114 0.22127 -0.3908 0.23168 -0.38802 0.24092 C -0.37986 0.26913 -0.35086 0.30428 -0.3309 0.32139 C -0.32482 0.32647 -0.3184 0.3304 -0.3118 0.33387 C -0.2993 0.34035 -0.27361 0.35098 -0.27361 0.35121 C -0.2309 0.34775 -0.20781 0.35283 -0.17517 0.32139 C -0.15573 0.28162 -0.17257 0.2437 -0.19739 0.21549 C -0.22118 0.18867 -0.25364 0.16185 -0.28316 0.14798 C -0.29913 0.14058 -0.32673 0.1378 -0.34357 0.13526 C -0.35 0.13665 -0.35694 0.13572 -0.3625 0.13942 C -0.37326 0.14659 -0.37673 0.16069 -0.38159 0.17341 C -0.36944 0.2548 -0.28593 0.28925 -0.23264 0.30012 C -0.21875 0.30289 -0.20486 0.30289 -0.19114 0.30428 C -0.13871 0.29896 -0.05798 0.32185 -0.02916 0.24509 C -0.03125 0.23237 -0.03177 0.21896 -0.03559 0.20717 C -0.03871 0.19769 -0.05902 0.17087 -0.06406 0.16486 C -0.09722 0.12486 -0.11857 0.1089 -0.1625 0.09711 C -0.23611 0.10405 -0.26875 0.09064 -0.31805 0.1563 C -0.31909 0.16208 -0.32274 0.16763 -0.32135 0.17341 C -0.31145 0.2222 -0.27274 0.22728 -0.24184 0.2326 C -0.22395 0.23121 -0.20573 0.23214 -0.18802 0.22821 C -0.16927 0.22405 -0.15208 0.21087 -0.13402 0.20301 C -0.11597 0.18289 -0.10173 0.16647 -0.08958 0.13942 C -0.08854 0.13249 -0.08576 0.12555 -0.08628 0.11838 C -0.08784 0.09965 -0.09062 0.08092 -0.09583 0.06335 C -0.09722 0.05873 -0.10191 0.05734 -0.10538 0.05503 C -0.12222 0.04393 -0.12361 0.04601 -0.14357 0.04231 C -0.16371 0.04509 -0.18402 0.04601 -0.20382 0.05064 C -0.2401 0.05919 -0.27673 0.09295 -0.30225 0.12671 C -0.3033 0.13387 -0.30538 0.14081 -0.30538 0.14798 C -0.30538 0.19075 -0.25295 0.19168 -0.23264 0.19445 C -0.14444 0.18751 -0.05642 0.19353 -0.00694 0.08462 C -0.00902 0.06497 -0.00885 0.04439 -0.01336 0.02543 C -0.01545 0.01688 -0.021 0.0104 -0.02604 0.00416 C -0.06041 -0.03838 -0.0842 -0.05156 -0.13073 -0.05919 C -0.17482 -0.05272 -0.18854 -0.04185 -0.21961 1.7341E-007 C -0.2217 0.00855 -0.22708 0.01665 -0.22604 0.02543 C -0.21788 0.0911 -0.17048 0.13017 -0.12448 0.13942 C -0.10034 0.14428 -0.05139 0.14798 -0.05139 0.14821 C -0.0302 0.14381 -0.0085 0.14335 0.01198 0.13526 C 0.03455 0.12624 0.04705 0.09272 0.05643 0.06751 C 0.05434 0.04925 0.05434 0.03029 0.05018 0.01272 C 0.04723 0.000920000000000001 0.02292 -0.0363 0.01841 -0.04231 C -0.01128 -0.08185 -0.04566 -0.09965 -0.08628 -0.10566 C -0.13298 -0.09803 -0.15069 -0.07792 -0.17517 -0.02543 C -0.17639 -0.01549 -0.17968 -0.00578 -0.17847 0.00416 C -0.17552 0.03006 -0.17048 0.05618 -0.1625 0.08023 C -0.15243 0.11075 -0.11458 0.14127 -0.0927 0.15214 C -0.08264 0.15699 -0.07152 0.15792 -0.06093 0.16069 C -0.00468 0.15468 0.02153 0.17665 0.04063 0.11422 C 0.04167 0.10705 0.04427 0.10012 0.04375 0.09295 C 0.0375 0.02775 0.0099 0.00185 -0.03559 -0.00856 C -0.04583 -0.00624 -0.06441 -0.00324 -0.07361 0.00416 C -0.09027 0.01734 -0.09652 0.04509 -0.10225 0.06751 C -0.09948 0.08601 -0.0993 0.09827 -0.08958 0.11422 C -0.06475 0.15538 -0.02014 0.15653 0.01528 0.16069 C 0.07188 0.15121 0.12657 0.15144 0.16441 0.08879 C 0.16632 0.08023 0.17084 0.07237 0.17084 0.06335 C 0.17084 0.04902 0.16007 0.0252 0.15174 0.01688 C 0.12361 -0.01179 0.08108 -0.02705 0.04705 -0.03376 C 0.0323 -0.03676 0.01736 -0.03676 0.00261 -0.03815 C -0.05156 -0.03075 -0.11875 -0.03376 -0.1625 0.02104 C -0.17135 0.03214 -0.17725 0.04647 -0.18472 0.05919 C -0.1868 0.07052 -0.19062 0.08139 -0.19114 0.09295 C -0.196 0.20578 -0.08819 0.27538 -0.01961 0.29595 C -0.00191 0.30127 0.01632 0.30451 0.0342 0.30867 C 0.10556 0.29873 0.14966 0.32046 0.18976 0.25364 C 0.19289 0.22936 0.19566 0.22405 0.18976 0.19861 C 0.17795 0.14728 0.13698 0.11977 0.10087 0.10983 C 0.08611 0.1126 0.07084 0.1126 0.05643 0.11838 C 0.05209 0.12 0.04966 0.12647 0.04705 0.1311 C 0.03368 0.15399 0.02778 0.17387 0.01841 0.19861 C 0.02448 0.21503 0.02153 0.21434 0.04375 0.19445 C 0.05313 0.18613 0.05712 0.16116 0.05973 0.14798 C 0.0566 0.13387 0.05504 0.11884 0.05018 0.10566 C 0.04549 0.09364 0.01736 0.08694 0.00886 0.08462 C -0.0059 0.0874 -0.02118 0.08717 -0.03559 0.09295 C -0.05833 0.10197 -0.07691 0.13711 -0.08958 0.16069 C -0.09913 0.20532 -0.11198 0.24277 -0.0927 0.2874 C -0.0908 0.29179 -0.08923 0.29688 -0.08628 0.30012 C -0.07899 0.30821 -0.06979 0.31006 -0.06093 0.31283 C -0.03125 0.30936 -0.00711 0.30127 0.02153 0.29179 C 0.03004 0.28601 0.03837 0.27977 0.04705 0.27468 C 0.05539 0.26983 0.06424 0.26728 0.0724 0.2622 C 0.09167 0.25017 0.10938 0.2326 0.12639 0.21549 C 0.12726 0.21133 0.12952 0.2074 0.12952 0.20301 C 0.12952 0.16879 0.10539 0.16509 0.08507 0.16069 C 0.06493 0.16208 0.04462 0.16046 0.02483 0.16486 C 0.00521 0.16925 -0.0243 0.19121 -0.04184 0.20301 C -0.04618 0.21133 -0.05173 0.21896 -0.05468 0.22821 C -0.06736 0.26751 -0.06024 0.30104 -0.04184 0.33387 C -0.00243 0.4037 0.05434 0.42451 0.11684 0.43121 C 0.1415 0.42821 0.1882 0.42936 0.21528 0.41017 C 0.22309 0.40462 0.24358 0.37665 0.25018 0.36786 C 0.25226 0.35931 0.25643 0.35144 0.25643 0.34243 C 0.25643 0.2941 0.2474 0.23746 0.21841 0.20301 C 0.21302 0.19676 0.19653 0.18636 0.18976 0.18173 C 0.18021 0.1859 0.1698 0.18751 0.16129 0.19445 C 0.15834 0.19676 0.15799 0.20277 0.15799 0.20717 C 0.15799 0.24971 0.16007 0.29873 0.18646 0.32971 C 0.2 0.34543 0.22084 0.35214 0.2375 0.35931 C 0.25018 0.35792 0.26302 0.35815 0.27552 0.35514 C 0.29306 0.35098 0.31129 0.33318 0.32639 0.32139 C 0.33646 0.30335 0.34132 0.28809 0.34532 0.26636 C 0.34427 0.25364 0.34497 0.24046 0.34219 0.22821 C 0.33646 0.20324 0.30747 0.1859 0.2915 0.17757 C 0.27136 0.18035 0.2507 0.17965 0.23108 0.1859 C 0.20834 0.19306 0.2007 0.22983 0.19289 0.25364 C 0.19705 0.27907 0.19914 0.3052 0.20573 0.32971 C 0.21233 0.35376 0.24497 0.35792 0.25973 0.36347 C 0.27778 0.36208 0.29618 0.36532 0.31372 0.35931 C 0.35261 0.34613 0.3816 0.31954 0.40886 0.28324 C 0.43837 0.18682 0.33785 0.11977 0.28195 0.1015 C 0.26007 0.10358 0.23438 0.09618 0.21841 0.12254 C 0.21424 0.12948 0.21407 0.13942 0.21198 0.14798 C 0.21077 0.15653 0.20782 0.16486 0.20886 0.17341 C 0.21667 0.23931 0.23698 0.25526 0.27865 0.27907 C 0.33976 0.27445 0.33021 0.29017 0.35816 0.24092 C 0.3724 0.1637 0.34063 0.12023 0.2915 0.09711 C 0.28611 0.09988 0.27986 0.10081 0.27552 0.10566 C 0.27327 0.10798 0.2698 0.13618 0.26927 0.13942 C 0.27032 0.1563 0.2691 0.17387 0.2724 0.19029 C 0.27448 0.20139 0.28004 0.21064 0.28507 0.21988 C 0.30052 0.24809 0.31042 0.26821 0.33264 0.28324 C 0.34375 0.29064 0.35608 0.2941 0.36754 0.30012 C 0.41146 0.29295 0.40851 0.30497 0.43108 0.27907 C 0.43455 0.27514 0.4382 0.27144 0.44063 0.26636 C 0.44566 0.25572 0.4533 0.2326 0.4533 0.23283 C 0.45226 0.21711 0.45243 0.20116 0.45018 0.1859 C 0.44931 0.17965 0.44601 0.17457 0.44375 0.16902 C 0.42778 0.13087 0.40452 0.12023 0.37396 0.10983 C 0.33091 0.11306 0.32032 0.10173 0.2915 0.1311 C 0.28438 0.13827 0.27882 0.14798 0.2724 0.1563 C 0.25955 0.19075 0.25365 0.21572 0.25018 0.25364 C 0.25226 0.26358 0.25278 0.27422 0.25643 0.28324 C 0.275 0.32902 0.31407 0.3378 0.34861 0.34243 C 0.36771 0.33827 0.38716 0.33642 0.40573 0.32971 C 0.43195 0.32023 0.44966 0.29272 0.46598 0.26636 C 0.47014 0.25017 0.47552 0.23306 0.47552 0.21549 C 0.47552 0.19723 0.47535 0.1785 0.4724 0.16069 C 0.47101 0.1526 0.4665 0.14613 0.46285 0.13942 C 0.44219 0.1015 0.41945 0.08879 0.38664 0.07607 C 0.36233 0.08023 0.3375 0.08092 0.31372 0.08879 C 0.26858 0.10381 0.24271 0.17087 0.23108 0.22405 C 0.23403 0.26867 0.22518 0.27977 0.2533 0.27052 C 0.27101 0.24763 0.28507 0.21988 0.30087 0.19445 C 0.3191 0.16509 0.33959 0.13873 0.35816 0.10983 C 0.37466 0.08416 0.37223 0.08948 0.38351 0.06335 C 0.38473 0.06058 0.3882 0.05711 0.38664 0.05503 C 0.38507 0.05295 0.38212 0.05711 0.38039 0.05919 C 0.3757 0.06428 0.37205 0.07075 0.36754 0.07607 C 0.33039 0.11931 0.28577 0.15815 0.25973 0.21549 C 0.26181 0.22821 0.26094 0.24254 0.26598 0.25364 C 0.26823 0.25873 0.27431 0.2578 0.27865 0.2578 C 0.28924 0.2578 0.29983 0.25503 0.31042 0.25364 C 0.36736 0.19977 0.42466 0.14936 0.45643 0.06335 C 0.44966 0.02173 0.45382 0.02173 0.42795 0.00416 C 0.40782 0.00694 0.38733 0.00694 0.36754 0.01272 C 0.35834 0.01549 0.35087 0.02451 0.34219 0.0296 C 0.33386 0.03445 0.32535 0.03815 0.31684 0.04231 C 0.30782 0.05225 0.28924 0.07144 0.28195 0.08462 C 0.27639 0.0948 0.26962 0.11884 0.26598 0.1311 C 0.26806 0.1452 0.26719 0.16069 0.2724 0.17341 C 0.27448 0.1785 0.28073 0.17757 0.28507 0.17757 C 0.29566 0.17757 0.30625 0.1748 0.31684 0.17341 C 0.36146 0.13942 0.40417 0.11006 0.42795 0.04647 C 0.42066 -0.00578 0.42917 -0.00185 0.39618 -0.01272 C 0.37101 -0.0074 0.34948 -0.00601 0.32639 0.00832 C 0.28473 0.03445 0.25573 0.08601 0.23108 0.13526 C 0.22118 0.17919 0.21389 0.19029 0.22795 0.24092 C 0.23212 0.25595 0.2625 0.26728 0.26927 0.27052 C 0.37848 0.26636 0.45816 0.27723 0.53264 0.16069 C 0.53907 0.1348 0.54688 0.11283 0.54532 0.08462 C 0.54393 0.05896 0.54098 0.03329 0.53594 0.00832 C 0.52466 -0.0474 0.48004 -0.07815 0.44375 -0.09734 C 0.3783 -0.09318 0.35261 -0.0948 0.30087 -0.04231 C 0.28959 -0.03075 0.27917 -0.0178 0.26927 -0.00416 C 0.25261 0.01896 0.22153 0.06751 0.22153 0.06775 C 0.21285 0.09827 0.2007 0.12601 0.21841 0.1563 C 0.22344 0.16486 0.2408 0.1674 0.24705 0.16902 C 0.29896 0.16393 0.33438 0.17295 0.37709 0.13526 C 0.38681 0.12671 0.40799 0.10936 0.41528 0.09711 C 0.42292 0.08439 0.4342 0.05503 0.4342 0.05526 C 0.43785 0.03584 0.44132 0.03006 0.43108 0.00832 C 0.42934 0.00462 0.42466 0.00555 0.42153 0.00416 C 0.41302 0.00694 0.404 0.00763 0.39618 0.01272 C 0.38855 0.0178 0.35816 0.05734 0.35486 0.06335 C 0.3224 0.12023 0.30955 0.15815 0.29462 0.22405 C 0.29775 0.24231 0.29792 0.2622 0.30417 0.27907 C 0.30764 0.28855 0.33368 0.2978 0.33907 0.30012 C 0.35382 0.29873 0.36893 0.29965 0.38351 0.29595 C 0.3915 0.29387 0.39844 0.28786 0.40573 0.28324 C 0.45174 0.25457 0.47344 0.22844 0.4915 0.16486 C 0.49948 0.07838 0.49323 0.02335 0.44705 -0.03815 C 0.44011 -0.0474 0.43368 -0.0578 0.42483 -0.06335 C 0.4066 -0.07491 0.36754 -0.08879 0.36754 -0.08856 C 0.32743 -0.08462 0.28698 -0.08301 0.24705 -0.07607 C 0.23802 -0.07445 0.22934 -0.0696 0.22153 -0.06335 C 0.21111 -0.05526 0.19289 -0.03376 0.19289 -0.03353 C 0.19098 -0.02821 0.18629 -0.02312 0.18646 -0.01688 C 0.18941 0.03306 0.2033 0.02358 0.23108 0.0296 C 0.2882 0.01688 0.34497 -0.000690000000000003 0.39618 -0.03815 C 0.40625 -0.04555 0.41493 -0.05572 0.42483 -0.06335 C 0.44566 -0.07977 0.46164 -0.0911 0.47865 -0.11422 C 0.47657 -0.11977 0.47709 -0.13017 0.4724 -0.1311 C 0.44132 -0.13757 0.41493 -0.12671 0.38664 -0.11422 C 0.32917 -0.08879 0.28264 -0.04763 0.23108 -0.00416 C 0.19983 0.0222 0.1592 0.05179 0.14202 0.09711 C 0.17639 0.13133 0.15677 0.11746 0.24063 0.10566 C 0.25191 0.10405 0.30469 0.08046 0.31372 0.07607 C 0.36615 0.0511 0.41042 0.0178 0.44705 -0.03815 C 0.45018 -0.04809 0.45556 -0.05711 0.45643 -0.06775 C 0.45782 -0.08462 0.45799 -0.10266 0.4533 -0.11838 C 0.45105 -0.12601 0.44306 -0.12763 0.4375 -0.1311 C 0.41059 -0.14751 0.41094 -0.14405 0.38039 -0.14798 C 0.33386 -0.14659 0.28716 -0.14798 0.24063 -0.14382 C 0.20295 -0.14058 0.16667 -0.12624 0.12952 -0.11838 C 0.08785 -0.09988 0.05382 -0.08069 0.01841 -0.04647 C 0.01424 -0.03815 0.0073 -0.03121 0.00573 -0.02127 C -0.00156 0.02381 0.02709 0.02173 0.05018 0.0296 C 0.07552 0.02821 0.10105 0.02844 0.12639 0.02543 C 0.14375 0.02335 0.16441 0.01295 0.18039 0.00416 C 0.22344 -0.01942 0.28716 -0.0578 0.30417 -0.12254 C 0.29375 -0.16277 0.26476 -0.13572 0.23108 -0.1311 C 0.15452 -0.10543 0.22917 -0.13272 0.16129 -0.1015 C 0.11129 -0.07838 0.05382 -0.05988 0.01528 -0.00856 C 0.01841 -0.00301 0.01962 0.0074 0.02483 0.00832 C 0.04636 0.01179 0.08403 -0.00486 0.10417 -0.01688 C 0.16511 -0.05387 0.26268 -0.11029 0.29462 -0.19445 C 0.29254 -0.20439 0.29584 -0.22243 0.2882 -0.22405 C 0.25157 -0.23145 0.20712 -0.21225 0.17396 -0.19029 C 0.13907 -0.16694 0.10747 -0.13965 0.07552 -0.11006 C 0.03959 -0.07676 -0.02534 -0.02821 -0.05139 0.0296 C -0.04305 0.05179 -0.01389 0.04023 -0.00069 0.03792 C 0.06146 0.02705 0.02101 0.03399 0.08507 0.01272 C 0.09983 0.00786 0.11476 0.00578 0.12952 1.7341E-007 C 0.20504 -0.02983 0.28473 -0.09064 0.31042 -0.19445 C 0.30747 -0.23908 0.31094 -0.25642 0.27865 -0.27052 C 0.25747 -0.26636 0.23611 -0.26474 0.21528 -0.25803 C 0.2066 -0.25526 0.16094 -0.22358 0.15486 -0.21988 C 0.12223 -0.20023 0.1099 -0.19815 0.07865 -0.17341 C 0.06736 -0.16462 0.05799 -0.15306 0.04705 -0.14382 C 0.02691 -0.12671 0.00955 -0.11954 -0.00382 -0.09295 C 0.02622 -0.08301 0.05851 -0.11584 0.08507 -0.1311 C 0.09861 -0.13896 0.11337 -0.14289 0.12639 -0.15214 C 0.18299 -0.19191 0.23368 -0.24023 0.27865 -0.30012 C 0.28073 -0.30728 0.28438 -0.31376 0.28507 -0.32139 C 0.28542 -0.32578 0.28507 -0.33272 0.28195 -0.3341 C 0.27674 -0.33642 0.27136 -0.3311 0.26598 -0.32971 C 0.21216 -0.2941 0.15834 -0.25919 0.10417 -0.22405 C 0.06789 -0.20046 0.02448 -0.18405 -0.00069 -0.13965 C 0.00139 -0.13387 0.00209 -0.12671 0.00573 -0.12254 C 0.02275 -0.10312 0.07848 -0.11815 0.08195 -0.11838 C 0.17223 -0.13711 0.27934 -0.17341 0.32309 -0.29179 C 0.32205 -0.30451 0.32344 -0.31792 0.31997 -0.32971 C 0.31407 -0.35052 0.28855 -0.35792 0.27552 -0.3637 C 0.19584 -0.35399 0.17552 -0.34751 0.09757 -0.31283 C 0.06372 -0.29757 0.03073 -0.27538 0.00886 -0.23676 C 0.01198 -0.22821 0.01302 -0.21757 0.01841 -0.21133 C 0.02344 -0.20532 0.03073 -0.20301 0.0375 -0.20301 C 0.0757 -0.20301 0.11355 -0.20856 0.15174 -0.21133 C 0.22726 -0.23214 0.33039 -0.24994 0.38039 -0.33827 C 0.37726 -0.34682 0.37552 -0.35653 0.37084 -0.3637 C 0.36407 -0.3741 0.32674 -0.38104 0.31684 -0.38474 C 0.20243 -0.37942 0.25521 -0.38983 0.14861 -0.35514 C 0.13594 -0.35098 0.12275 -0.34821 0.11042 -0.34243 C 0.08924 -0.33249 0.04705 -0.31283 0.04705 -0.3126 C 0.04254 -0.30867 0.03872 -0.30405 0.0342 -0.30012 C 0.0323 -0.2985 0.0257 -0.29549 0.02778 -0.29595 C 0.07743 -0.30728 0.11684 -0.34497 0.15799 -0.38058 C 0.16806 -0.38913 0.17969 -0.39329 0.18976 -0.40162 C 0.22917 -0.43445 0.22743 -0.43491 0.2533 -0.46936 C 0.25799 -0.47561 0.24045 -0.46405 0.2342 -0.46081 C 0.19514 -0.44069 0.22848 -0.45642 0.18646 -0.42705 C 0.15677 -0.40601 0.15504 -0.4141 0.12639 -0.38474 C 0.08698 -0.34451 0.06719 -0.31676 0.04375 -0.2622 C 0.04254 -0.25503 0.04063 -0.24809 0.04063 -0.24093 C 0.04063 -0.21364 0.06355 -0.20971 0.07865 -0.20301 C 0.12414 -0.20717 0.1698 -0.20925 0.21528 -0.21572 C 0.27014 -0.22358 0.31615 -0.26012 0.35816 -0.30451 C 0.36511 -0.32324 0.36927 -0.32671 0.36441 -0.34682 C 0.35174 -0.34405 0.33855 -0.34358 0.32639 -0.33827 C 0.30834 -0.33017 0.28316 -0.30335 0.26927 -0.28763 C 0.20886 -0.21919 0.15973 -0.13988 0.13907 -0.03815 C 0.14115 -0.01988 0.13941 1.73409999998375E-007 0.14532 0.01688 C 0.14827 0.02543 0.1816 0.02913 0.18351 0.0296 C 0.20243 0.02405 0.22205 0.02104 0.24063 0.01272 C 0.25105 0.00809 0.2599 -0.00093 0.26927 -0.00856 C 0.32066 -0.0504 0.35 -0.10983 0.37396 -0.18173 C 0.37882 -0.2474 0.37865 -0.33064 0.31997 -0.34682 C 0.30834 -0.34266 0.29514 -0.34312 0.28507 -0.3341 C 0.28056 -0.33017 0.28351 -0.31977 0.28195 -0.31283 C 0.28039 -0.30566 0.27761 -0.29873 0.27552 -0.29179 C 0.27448 -0.28185 0.2724 -0.27214 0.2724 -0.2622 C 0.2724 -0.21711 0.26789 -0.17087 0.27552 -0.12694 C 0.27622 -0.12254 0.30486 -0.1415 0.3073 -0.14382 C 0.34254 -0.17526 0.37657 -0.20948 0.41198 -0.24093 C 0.40035 -0.20948 0.39306 -0.1778 0.38664 -0.14382 C 0.37882 -0.05988 0.38212 0.05688 0.4533 0.08879 C 0.46389 0.08601 0.47518 0.08601 0.48507 0.08023 C 0.50243 0.07029 0.51042 0.02821 0.51684 0.00832 C 0.52205 -0.04856 0.52431 -0.0837 0.51372 -0.14382 C 0.50782 -0.17711 0.49601 -0.20462 0.48195 -0.2326 C 0.44028 -0.31584 0.38334 -0.37156 0.31042 -0.39329 C 0.26632 -0.37965 0.26719 -0.38821 0.24705 -0.34243 C 0.25018 -0.31838 0.25157 -0.2941 0.25643 -0.27052 C 0.26337 -0.23607 0.29601 -0.20555 0.31997 -0.19445 C 0.32743 -0.19584 0.33507 -0.19538 0.34219 -0.19884 C 0.34705 -0.20116 0.35052 -0.2074 0.35486 -0.21133 C 0.37361 -0.22775 0.39236 -0.24139 0.40886 -0.2622 C 0.42084 -0.27723 0.43629 -0.28902 0.44375 -0.30867 C 0.44914 -0.32277 0.45973 -0.35098 0.45973 -0.35075 C 0.46077 -0.35792 0.46337 -0.36486 0.46285 -0.37202 C 0.46025 -0.41272 0.4467 -0.41225 0.42483 -0.42705 C 0.37622 -0.42382 0.35677 -0.42012 0.31372 -0.41017 C 0.29792 -0.40647 0.26598 -0.40162 0.26598 -0.40139 C 0.25365 -0.39607 0.23959 -0.3926 0.22795 -0.38474 C 0.25174 -0.36902 0.28646 -0.39723 0.3073 -0.41017 C 0.36181 -0.44416 0.4217 -0.45642 0.45973 -0.52439 C 0.45868 -0.53711 0.45973 -0.55029 0.45643 -0.56231 C 0.45417 -0.57087 0.44914 -0.57803 0.44375 -0.58358 C 0.4092 -0.61827 0.38993 -0.61619 0.34861 -0.6215 C 0.28177 -0.61803 0.22882 -0.61064 0.16441 -0.59191 C 0.11823 -0.5785 0.0849 -0.56647 0.04705 -0.52856 C 0.04914 -0.51723 0.04844 -0.50451 0.0533 -0.4948 C 0.0573 -0.48624 0.06545 -0.48231 0.0724 -0.47769 C 0.09914 -0.45988 0.129 -0.46035 0.15799 -0.45665 C 0.20955 -0.45965 0.24306 -0.45803 0.2882 -0.48624 C 0.30903 -0.49919 0.31493 -0.50266 0.33264 -0.52 C 0.34236 -0.52948 0.36129 -0.5496 0.36129 -0.54936 C 0.36337 -0.55376 0.36563 -0.55792 0.36754 -0.56231 C 0.36997 -0.56786 0.37396 -0.57919 0.37396 -0.57873 C 0.36302 -0.59468 0.37223 -0.58428 0.33907 -0.56647 C 0.30973 -0.55075 0.28091 -0.53688 0.2533 -0.51584 C 0.25087 -0.51191 0.2342 -0.48717 0.2342 -0.47769 C 0.2342 -0.45503 0.23507 -0.43168 0.24063 -0.41017 C 0.24289 -0.40162 0.2507 -0.39792 0.25643 -0.39329 C 0.27448 -0.37873 0.29983 -0.37965 0.31997 -0.37642 C 0.3816 -0.38451 0.44566 -0.42058 0.48507 -0.48624 C 0.4882 -0.50358 0.49514 -0.51445 0.4882 -0.53272 C 0.48716 -0.53549 0.48386 -0.53526 0.48195 -0.53688 C 0.48073 -0.53803 0.48004 -0.54012 0.47865 -0.54127 C 0.47466 -0.54451 0.46598 -0.5496 0.46598 -0.54936 C 0.45122 -0.54821 0.43611 -0.54844 0.42153 -0.54543 C 0.41598 -0.54428 0.41111 -0.53942 0.40573 -0.53688 C 0.37778 -0.5237 0.35105 -0.5163 0.32639 -0.4948 C 0.32535 -0.49064 0.32431 -0.48624 0.32309 -0.48208 C 0.32223 -0.47908 0.31997 -0.47676 0.31997 -0.47353 C 0.31997 -0.46451 0.33594 -0.45665 0.33594 -0.45642 C 0.37552 -0.46312 0.39358 -0.47561 0.42795 -0.50312 C 0.43247 -0.50682 0.43716 -0.51052 0.44063 -0.51584 C 0.44566 -0.52347 0.4533 -0.54127 0.4533 -0.54104 C 0.45295 -0.54382 0.45105 -0.56555 0.44705 -0.57087 C 0.44445 -0.57434 0.44045 -0.57595 0.4375 -0.57919 C 0.43403 -0.58312 0.4316 -0.58844 0.42795 -0.59191 C 0.40625 -0.61272 0.37709 -0.61318 0.35174 -0.61734 C 0.27917 -0.61087 0.25782 -0.61896 0.19618 -0.58358 C 0.18872 -0.57942 0.18056 -0.57665 0.17396 -0.57087 C 0.16372 -0.56231 0.14532 -0.54127 0.14532 -0.54104 C 0.14427 -0.53572 0.14184 -0.53017 0.14202 -0.52439 C 0.14445 -0.48277 0.14966 -0.48208 0.17396 -0.46936 C 0.20782 -0.47214 0.24202 -0.47052 0.27552 -0.47769 C 0.31285 -0.48555 0.36789 -0.51353 0.38976 -0.55815 C 0.38768 -0.56509 0.38594 -0.57249 0.38351 -0.57919 C 0.3816 -0.58428 0.37726 -0.5852 0.37396 -0.58751 C 0.354 -0.60301 0.34323 -0.60671 0.31997 -0.61318 C 0.21632 -0.6037 0.06736 -0.55931 0.02483 -0.41434 C 0.03108 -0.38913 0.03004 -0.36162 0.05018 -0.35098 C 0.05625 -0.34775 0.06268 -0.34821 0.06927 -0.34682 C 0.09045 -0.3496 0.11181 -0.35029 0.13264 -0.35514 C 0.14167 -0.35723 0.14966 -0.36347 0.15799 -0.36786 C 0.19584 -0.38798 0.22223 -0.41896 0.2375 -0.46936 C 0.23438 -0.4904 0.23351 -0.5126 0.22795 -0.53272 C 0.22292 -0.55052 0.1823 -0.57225 0.17084 -0.57503 C 0.14983 -0.57988 0.10712 -0.58358 0.10712 -0.58312 C 0.08195 -0.58197 0.05625 -0.58382 0.03108 -0.57919 C -0.02205 -0.56948 -0.07812 -0.52509 -0.10225 -0.46081 C -0.1033 -0.45249 -0.10659 -0.44393 -0.10538 -0.43561 C -0.10052 -0.40116 -0.08402 -0.37249 -0.05781 -0.3637 C -0.04323 -0.35884 -0.01336 -0.35514 -0.01336 -0.35491 C 0.01302 -0.35792 0.03959 -0.35931 0.06598 -0.3637 C 0.09462 -0.36856 0.11632 -0.39723 0.13594 -0.42289 C 0.14254 -0.44532 0.14827 -0.46682 0.15174 -0.4904 C 0.1507 -0.50728 0.15087 -0.52462 0.14861 -0.54127 C 0.1448 -0.56809 0.12431 -0.57873 0.10712 -0.58358 C 0.08507 -0.58081 0.0625 -0.58127 0.04063 -0.57503 C 0.0323 -0.57272 0.02518 -0.56509 0.01841 -0.55815 C -0.01406 -0.52509 -0.03559 -0.49642 -0.05781 -0.45249 C -0.0658 -0.42035 -0.06961 -0.41757 -0.05781 -0.37642 C -0.05659 -0.37225 -0.05156 -0.37318 -0.04826 -0.37202 C -0.04409 -0.3704 -0.03975 -0.36925 -0.03559 -0.36786 C -0.02291 -0.37202 -0.00972 -0.37457 0.00261 -0.38058 C 0.04167 -0.39977 0.06719 -0.44324 0.08507 -0.4904 C 0.08872 -0.51977 0.09115 -0.5496 0.0724 -0.57087 C 0.06841 -0.57549 0.06441 -0.58081 0.05973 -0.58358 C 0.04723 -0.59075 0.02153 -0.60046 0.02153 -0.6 C -0.06493 -0.59191 -0.15972 -0.6037 -0.21961 -0.50728 C -0.22083 -0.49896 -0.22395 -0.4904 -0.22291 -0.48208 C -0.2125 -0.40254 -0.1625 -0.39214 -0.1118 -0.38474 C -0.05295 -0.39052 0.02587 -0.38682 0.05643 -0.46936 C 0.0533 -0.48624 0.05191 -0.50382 0.04705 -0.52 C 0.04532 -0.52555 0.04132 -0.52948 0.0375 -0.53272 C 0.01198 -0.55376 -0.00955 -0.56093 -0.03871 -0.56647 C -0.06632 -0.5637 -0.09392 -0.56324 -0.12135 -0.55815 C -0.16666 -0.5496 -0.2184 -0.50497 -0.23559 -0.44809 C -0.23854 -0.42775 -0.24218 -0.41526 -0.23559 -0.39329 C -0.23437 -0.38936 -0.21458 -0.37711 -0.21336 -0.37642 C -0.19652 -0.37919 -0.17916 -0.37965 -0.1625 -0.38474 C -0.15555 -0.38682 -0.14965 -0.3926 -0.14357 -0.39746 C -0.10868 -0.42474 -0.08941 -0.45688 -0.07691 -0.50728 C -0.08003 -0.54127 -0.07465 -0.54428 -0.09583 -0.55399 C -0.10538 -0.55121 -0.1158 -0.55121 -0.12448 -0.54543 C -0.13107 -0.54104 -0.15243 -0.50474 -0.15625 -0.49896 C -0.16857 -0.48116 -0.18402 -0.46428 -0.19444 -0.44393 C -0.20868 -0.41549 -0.21805 -0.3889 -0.22916 -0.35931 C -0.21875 -0.3089 -0.22691 -0.30913 -0.19444 -0.30012 C -0.17639 -0.30289 -0.15798 -0.30358 -0.14027 -0.30867 C -0.13333 -0.31075 -0.12795 -0.31792 -0.12135 -0.32139 C -0.11423 -0.32509 -0.10625 -0.32578 -0.09913 -0.32971 C -0.07708 -0.34173 -0.07309 -0.34613 -0.05781 -0.35931 C -0.05295 -0.37272 -0.05434 -0.3741 -0.06406 -0.38058 C -0.13715 -0.36601 -0.1559 -0.35699 -0.22604 -0.32139 C -0.23593 -0.3163 -0.2427 -0.30382 -0.25139 -0.29595 C -0.25972 -0.28832 -0.2684 -0.28185 -0.27691 -0.27491 C -0.28715 -0.25434 -0.30243 -0.23353 -0.28316 -0.21133 C -0.27986 -0.20763 -0.27465 -0.20856 -0.27048 -0.20717 C -0.23767 -0.21133 -0.20416 -0.20994 -0.17205 -0.21988 C -0.15364 -0.22566 -0.13819 -0.24231 -0.12135 -0.25364 C -0.1092 -0.26173 -0.08958 -0.28763 -0.08958 -0.2874 C -0.08264 -0.31029 -0.07048 -0.34613 -0.0927 -0.3637 C -0.09739 -0.3674 -0.11493 -0.3711 -0.11805 -0.37202 C -0.2 -0.3637 -0.28211 -0.33619 -0.35295 -0.27908 C -0.35364 -0.27792 -0.36857 -0.25202 -0.36909 -0.24948 C -0.36944 -0.24509 -0.36857 -0.23931 -0.36597 -0.23676 C -0.36041 -0.23168 -0.34687 -0.22844 -0.34687 -0.22821 C -0.33402 -0.22983 -0.32118 -0.22983 -0.3085 -0.2326 C -0.27812 -0.23931 -0.24774 -0.26798 -0.22604 -0.29595 C -0.22031 -0.31098 -0.21371 -0.31746 -0.22916 -0.32555 C -0.23229 -0.32717 -0.23559 -0.32832 -0.23871 -0.32971 C -0.25139 -0.32694 -0.26458 -0.32601 -0.27691 -0.32139 C -0.29427 -0.31468 -0.32777 -0.29595 -0.32777 -0.29572 C -0.33402 -0.28902 -0.34132 -0.28347 -0.34687 -0.27491 C -0.36232 -0.24994 -0.37014 -0.21156 -0.37847 -0.18173 C -0.3802 -0.15491 -0.38524 -0.11954 -0.37517 -0.09295 C -0.3717 -0.08393 -0.35625 -0.07607 -0.35625 -0.07584 C -0.32777 -0.08093 -0.3151 -0.08994 -0.28958 -0.10566 C -0.25555 -0.12694 -0.22135 -0.14636 -0.19444 -0.18173 C -0.18368 -0.2104 -0.2118 -0.21179 -0.22604 -0.21572 C -0.24409 -0.21295 -0.26232 -0.21225 -0.28003 -0.20717 C -0.28698 -0.20509 -0.29253 -0.19792 -0.29913 -0.19445 C -0.3085 -0.1896 -0.3184 -0.18682 -0.32777 -0.18173 C -0.33628 -0.17688 -0.34427 -0.16971 -0.35295 -0.16486 C -0.38177 -0.14913 -0.40955 -0.14012 -0.43246 -0.11006 C -0.42812 -0.09595 -0.42604 -0.08023 -0.41961 -0.06775 C -0.41614 -0.06104 -0.40955 -0.05827 -0.40382 -0.05503 C -0.3743 -0.03884 -0.37187 -0.03954 -0.34687 -0.03376 C -0.32673 -0.03653 -0.3059 -0.03607 -0.28628 -0.04231 C -0.27899 -0.04462 -0.27482 -0.07792 -0.27361 -0.08462 C -0.27465 -0.09595 -0.27621 -0.12162 -0.28003 -0.13526 C -0.28611 -0.15723 -0.29826 -0.17595 -0.3085 -0.19445 C -0.31076 -0.19861 -0.3151 -0.19977 -0.31805 -0.20301 C -0.32152 -0.20694 -0.32378 -0.21272 -0.32777 -0.21572 C -0.3335 -0.22012 -0.34687 -0.22405 -0.34687 -0.22382 C -0.35729 -0.22127 -0.36823 -0.22058 -0.37847 -0.21572 C -0.38784 -0.21133 -0.39635 -0.19329 -0.40382 -0.18613 C -0.41076 -0.17942 -0.41927 -0.17619 -0.42604 -0.16925 C -0.43854 -0.15653 -0.44878 -0.14035 -0.46111 -0.12694 C -0.46406 -0.11977 -0.46823 -0.11329 -0.47048 -0.10566 C -0.47239 -0.09896 -0.47413 -0.09179 -0.47361 -0.08462 C -0.47118 -0.04509 -0.45104 -0.03353 -0.42604 -0.02543 C -0.41753 -0.02682 -0.40902 -0.02682 -0.40069 -0.0296 C -0.38628 -0.03445 -0.37639 -0.05133 -0.36597 -0.06335 C -0.36198 -0.06798 -0.35659 -0.07075 -0.35295 -0.07607 C -0.33402 -0.10382 -0.32725 -0.13249 -0.31493 -0.16486 C -0.31215 -0.17942 -0.30468 -0.20948 -0.31805 -0.21988 C -0.32743 -0.22705 -0.33923 -0.2141 -0.35 -0.21133 C -0.40538 -0.16208 -0.46475 -0.09572 -0.48628 -0.00856 C -0.48524 0.00555 -0.48628 0.02012 -0.48316 0.03376 C -0.48038 0.04624 -0.46562 0.05156 -0.45781 0.05503 C -0.42274 0.04786 -0.42291 0.05503 -0.40069 0.03376 C -0.3908 0.02451 -0.38159 0.01387 -0.37205 0.00416 C -0.36805 -0.00023 -0.35937 -0.00856 -0.35937 -0.00832 C -0.35086 -0.02775 -0.34045 -0.04116 -0.3309 -0.05919 C -0.32847 -0.06335 -0.32639 -0.06751 -0.32448 -0.07191 C -0.32326 -0.07468 -0.31892 -0.08046 -0.32135 -0.08046 C -0.32604 -0.08046 -0.32986 -0.07468 -0.33402 -0.07191 C -0.34305 -0.05572 -0.35416 -0.04231 -0.3625 -0.02543 C -0.36597 -0.0185 -0.3684 -0.01087 -0.37205 -0.00416 C -0.38003 0.0104 -0.39045 0.02243 -0.39739 0.03792 C -0.40382 0.05202 -0.41649 0.08023 -0.41649 0.08046 C -0.41753 0.08578 -0.41961 0.09133 -0.41961 0.09711 C -0.41961 0.13318 -0.40955 0.13225 -0.38802 0.13942 C -0.37205 0.13803 -0.35607 0.1385 -0.34027 0.13526 C -0.32378 0.13202 -0.3092 0.11353 -0.29583 0.1015 C -0.27222 0.08046 -0.26284 0.06636 -0.24826 0.03376 C -0.24375 0.00971 -0.24027 0.000230000000000001 -0.25139 -0.0296 C -0.2533 -0.03468 -0.25989 -0.0326 -0.26406 -0.03376 C -0.26944 -0.03538 -0.27465 -0.03676 -0.28003 -0.03815 C -0.32586 -0.02497 -0.36927 -0.01225 -0.40382 0.03376 C -0.41302 0.04601 -0.42604 0.07792 -0.43246 0.09295 C -0.43455 0.11353 -0.43923 0.14312 -0.42604 0.16069 C -0.41857 0.17064 -0.4092 0.17757 -0.40069 0.1859 C -0.39618 0.19052 -0.39027 0.19237 -0.38472 0.19445 C -0.3743 0.19815 -0.35295 0.20301 -0.35295 0.20324 C -0.31145 0.19723 -0.28611 0.1859 -0.25139 0.1563 C -0.22795 0.13642 -0.21336 0.12694 -0.19444 0.1015 C -0.19218 0.09595 -0.19027 0.09017 -0.18802 0.08462 C -0.18611 0.08023 -0.18211 0.07699 -0.18177 0.07191 C -0.17899 0.04439 -0.19566 0.04301 -0.21024 0.03792 C -0.23142 0.03931 -0.25277 0.03699 -0.27361 0.04231 C -0.29132 0.04694 -0.30746 0.05942 -0.32448 0.06751 C -0.35955 0.08416 -0.38975 0.10381 -0.41649 0.13942 C -0.42448 0.16601 -0.43211 0.17364 -0.41649 0.19861 C -0.41493 0.20092 -0.41215 0.20116 -0.41024 0.20301 C -0.40781 0.20532 -0.40642 0.20948 -0.40382 0.21133 C -0.39774 0.21526 -0.38472 0.21988 -0.38472 0.22012 C -0.38125 0.21942 -0.32152 0.21272 -0.31493 0.21133 C -0.30642 0.20948 -0.28958 0.20301 -0.28958 0.20324 C -0.2875 0.20023 -0.28559 0.19676 -0.28316 0.19445 C -0.28125 0.1926 -0.27795 0.19306 -0.27691 0.19029 C -0.27621 0.18844 -0.27899 0.18728 -0.28003 0.1859 C -0.31614 0.19098 -0.31684 0.19144 -0.34687 0.21133 C -0.36753 0.2252 -0.38854 0.23399 -0.40694 0.25364 C -0.41892 0.26636 -0.42725 0.28347 -0.43559 0.30012 C -0.43923 0.31514 -0.44305 0.32439 -0.43559 0.34243 C -0.43333 0.34798 -0.42291 0.35098 -0.42291 0.35121 C -0.4059 0.3496 -0.38889 0.3489 -0.37205 0.34659 C -0.36163 0.3452 -0.35347 0.3341 -0.34357 0.32971 C -0.34149 0.32416 -0.33923 0.31838 -0.33715 0.31283 C -0.33611 0.31006 -0.33402 0.30428 -0.33402 0.30451 C -0.33802 0.28809 -0.3375 0.28855 -0.35 0.28324 C -0.36909 0.28462 -0.38802 0.28439 -0.40694 0.2874 C -0.41562 0.28879 -0.43246 0.29595 -0.43246 0.29618 C -0.44514 0.30428 -0.45468 0.31283 -0.46111 0.32971 C -0.46475 0.35075 -0.46684 0.36208 -0.45139 0.37202 C -0.4493 0.36647 -0.44722 0.36069 -0.44514 0.35514 C -0.44253 0.34821 -0.43368 0.35121 -0.42916 0.34659 C -0.41545 0.33272 -0.43159 0.3422 -0.41354 0.33387 C -0.4059 0.32416 -0.39895 0.32139 -0.39427 0.30867 C -0.39531 0.3015 -0.39392 0.29295 -0.39739 0.2874 C -0.4033 0.27815 -0.43524 0.2874 -0.43559 0.2874 C -0.44948 0.30682 -0.4368 0.32994 -0.42291 0.34243 C -0.3967 0.36601 -0.371 0.36832 -0.34027 0.37202 C -0.31267 0.36971 -0.29218 0.37017 -0.26736 0.35931 C -0.24878 0.34058 -0.24739 0.33318 -0.24184 0.30428 C -0.24392 0.2874 -0.24409 0.26983 -0.24826 0.25364 C -0.25086 0.24324 -0.26441 0.23653 -0.27048 0.2326 C -0.27257 0.23121 -0.27691 0.22821 -0.27691 0.22844 C -0.40555 0.24208 -0.33177 0.21064 -0.36597 0.25364 C -0.35798 0.27399 -0.36493 0.26127 -0.33402 0.27468 C -0.31788 0.28185 -0.30017 0.27792 -0.28316 0.27907 C -0.26093 0.28069 -0.23871 0.28185 -0.21666 0.28324 C -0.14097 0.28069 -0.10052 0.28347 -0.03559 0.2622 C -0.03437 0.26127 -0.00955 0.24601 -0.00694 0.24092 C -0.00451 0.23607 -0.00486 0.2296 -0.00382 0.22405 C -0.00486 0.21549 -0.00486 0.20671 -0.00694 0.19861 C -0.0118 0.17919 -0.02604 0.17665 -0.03871 0.17341 C -0.05451 0.1748 -0.07066 0.17387 -0.08628 0.17757 C -0.10503 0.18197 -0.12222 0.19491 -0.14027 0.20301 C -0.14774 0.20994 -0.15659 0.21503 -0.1625 0.22405 C -0.17257 0.23931 -0.18802 0.27468 -0.18802 0.27491 C -0.19062 0.29064 -0.19652 0.32 -0.18177 0.32971 C -0.17777 0.33225 -0.17309 0.33249 -0.16892 0.33387 C -0.13541 0.33133 -0.10625 0.3274 -0.07361 0.32139 C -0.04843 0.31168 -0.02118 0.30728 0.00261 0.29179 C 0.0033 0.29087 0.01111 0.28069 0.00886 0.27907 C 0.00591 0.27723 0.00243 0.28185 -0.00069 0.28324 C -0.00486 0.28879 -0.01145 0.29249 -0.01336 0.30012 C -0.01441 0.30428 -0.01475 0.3089 -0.01649 0.31283 C -0.01805 0.3163 -0.02118 0.31815 -0.02291 0.32139 C -0.0243 0.32393 -0.025 0.32694 -0.02604 0.32971 C -0.025 0.33688 -0.02586 0.34497 -0.02291 0.35098 C -0.021 0.35468 -0.01649 0.35353 -0.01336 0.35514 C 0.00521 0.36486 -0.02534 0.35699 0.01841 0.36347 C 0.04792 0.36786 0.07743 0.37272 0.10712 0.37618 C 0.12188 0.3748 0.13698 0.37434 0.15174 0.37202 C 0.15417 0.37156 0.15799 0.3711 0.15799 0.36786 C 0.15834 0.36532 0.15625 0.2978 0.14861 0.28324 C 0.14497 0.27676 0.14011 0.27191 0.13594 0.26636 C 0.1349 0.26497 0.13264 0.2622 0.13264 0.26243 C 0.12726 0.26358 0.12049 0.27144 0.11684 0.26636 C 0.11476 0.26358 0.13733 0.25434 0.13907 0.25364 C 0.14323 0.24809 0.1474 0.24231 0.15174 0.23676 C 0.15382 0.23399 0.15799 0.22821 0.15799 0.22844 C 0.16077 0.21017 0.16459 0.19653 0.15799 0.17757 C 0.15573 0.17017 0.14983 0.16578 0.14532 0.16069 C 0.10816 0.11884 0.07691 0.10798 0.02778 0.1015 C 0.01823 0.10197 -0.06684 0.09572 -0.09913 0.11422 C -0.1118 0.12139 -0.12222 0.13434 -0.13402 0.14381 C -0.13941 0.15445 -0.15191 0.17249 -0.13402 0.1859 C -0.12725 0.19098 -0.11927 0.18035 -0.1118 0.17757 C -0.10052 0.16254 -0.09323 0.14543 -0.08628 0.12671 C -0.08524 0.12116 -0.07986 0.09295 -0.08003 0.08879 C -0.08385 0.00763 -0.13819 -0.05156 -0.19444 -0.07191 C -0.20798 -0.07676 -0.2217 -0.08208 -0.23559 -0.08462 C -0.26093 -0.08925 -0.3118 -0.09295 -0.3118 -0.09272 C -0.35104 -0.09087 -0.39479 -0.11029 -0.41354 -0.05919 C -0.4125 -0.05503 -0.41302 -0.04925 -0.41024 -0.04647 C -0.40677 -0.04277 -0.40156 -0.04416 -0.39739 -0.04231 C -0.35746 -0.02474 -0.38732 -0.03237 -0.35 -0.02543 C -0.33177 -0.02705 -0.29913 -0.02659 -0.28003 -0.03815 C -0.26024 -0.05017 -0.24236 -0.06728 -0.22291 -0.08046 C -0.20989 -0.1022 -0.20069 -0.12301 -0.19114 -0.14798 C -0.19201 -0.15676 -0.18906 -0.21803 -0.20694 -0.2326 C -0.21666 -0.24046 -0.23871 -0.24948 -0.23871 -0.24925 C -0.29809 -0.24624 -0.31336 -0.24694 -0.3625 -0.22844 C -0.38507 -0.2104 -0.37239 -0.21988 -0.39739 -0.20301 C -0.39948 -0.20162 -0.3934 -0.20624 -0.39114 -0.20717 C -0.38802 -0.20856 -0.38472 -0.20994 -0.38159 -0.21133 C -0.35208 -0.2511 -0.32413 -0.29665 -0.30538 -0.34682 C -0.30642 -0.35954 -0.30625 -0.37249 -0.3085 -0.38474 C -0.31319 -0.40994 -0.34791 -0.41526 -0.3625 -0.4185 C -0.38576 -0.41572 -0.40937 -0.41572 -0.43246 -0.41017 C -0.43854 -0.40879 -0.4434 -0.40254 -0.44826 -0.39746 C -0.45399 -0.39121 -0.46406 -0.37642 -0.46406 -0.37619 C -0.44705 -0.32277 -0.45989 -0.33734 -0.38802 -0.35098 C -0.36614 -0.35514 -0.34479 -0.36439 -0.32448 -0.37642 C -0.31163 -0.38405 -0.30295 -0.39584 -0.28958 -0.40162 C -0.28663 -0.40925 -0.2809 -0.41711 -0.29583 -0.4185 C -0.30347 -0.41919 -0.33923 -0.41225 -0.35 -0.41017 C -0.38107 -0.39237 -0.41406 -0.37965 -0.43871 -0.34682 C -0.4283 -0.33202 -0.43524 -0.33942 -0.40382 -0.35514 C -0.38125 -0.36647 -0.36093 -0.38451 -0.34027 -0.40162 C -0.3309 -0.40948 -0.30816 -0.42682 -0.29913 -0.43977 C -0.29097 -0.45156 -0.27691 -0.47769 -0.27691 -0.47746 C -0.27899 -0.48763 -0.27777 -0.50012 -0.28316 -0.50728 C -0.28628 -0.51145 -0.29166 -0.50497 -0.29583 -0.50312 C -0.30121 -0.50081 -0.30677 -0.4985 -0.3118 -0.4948 C -0.33333 -0.47908 -0.3526 -0.45919 -0.37205 -0.43977 C -0.38767 -0.42428 -0.4026 -0.41179 -0.41649 -0.39329 C -0.4092 -0.37318 -0.40538 -0.39029 -0.39739 -0.39746 C -0.3934 -0.40093 -0.38836 -0.40208 -0.38472 -0.40601 C -0.37777 -0.41341 -0.37291 -0.42405 -0.36597 -0.43121 C -0.34895 -0.44809 -0.33298 -0.46682 -0.32135 -0.4904 C -0.32239 -0.49896 -0.31805 -0.51422 -0.32448 -0.51584 C -0.37448 -0.52832 -0.40677 -0.50728 -0.45139 -0.49896 C -0.46232 -0.49318 -0.47187 -0.48925 -0.48003 -0.47769 C -0.47014 -0.46474 -0.4585 -0.46451 -0.44514 -0.46081 C -0.44027 -0.46127 -0.38767 -0.46705 -0.37847 -0.46936 C -0.34184 -0.47861 -0.31215 -0.4941 -0.27691 -0.50728 C -0.26944 -0.51445 -0.26215 -0.52139 -0.25468 -0.52856 C -0.25156 -0.53156 -0.25781 -0.5385 -0.26093 -0.54127 C -0.27083 -0.55006 -0.2842 -0.54751 -0.29583 -0.5496 C -0.31284 -0.54543 -0.33003 -0.54312 -0.34687 -0.53688 C -0.36666 -0.52925 -0.37586 -0.50127 -0.38159 -0.47769 C -0.37951 -0.45665 -0.37951 -0.43491 -0.37517 -0.41434 C -0.37395 -0.40856 -0.36961 -0.40486 -0.36597 -0.40162 C -0.34895 -0.38705 -0.33923 -0.38428 -0.32135 -0.37642 C -0.25173 -0.3822 -0.20121 -0.37642 -0.1467 -0.43121 C -0.13975 -0.44925 -0.13402 -0.45503 -0.1467 -0.47769 C -0.14948 -0.48231 -0.15538 -0.48069 -0.15955 -0.48208 C -0.20781 -0.46821 -0.23472 -0.46266 -0.25781 -0.40162 C -0.25972 -0.39168 -0.26493 -0.37318 -0.25781 -0.3637 C -0.25312 -0.35746 -0.23871 -0.35514 -0.23871 -0.35491 C -0.22604 -0.35792 -0.21302 -0.35884 -0.20069 -0.3637 C -0.18559 -0.36971 -0.16423 -0.39468 -0.14982 -0.40601 C -0.14652 -0.41179 -0.13455 -0.43098 -0.13402 -0.43977 C -0.13333 -0.45387 -0.1342 -0.46844 -0.13715 -0.48208 C -0.1434 -0.51145 -0.18003 -0.51676 -0.19739 -0.52 C -0.27048 -0.5096 -0.3033 -0.51861 -0.35295 -0.45249 C -0.35503 -0.44532 -0.35989 -0.43884 -0.35937 -0.43121 C -0.35694 -0.3852 -0.33576 -0.38127 -0.3085 -0.36786 C -0.26406 -0.37064 -0.21927 -0.36925 -0.17517 -0.37642 C -0.1658 -0.37803 -0.15833 -0.38798 -0.14982 -0.39329 C -0.11823 -0.41318 -0.09149 -0.43168 -0.08003 -0.47769 C -0.08455 -0.52116 -0.07569 -0.50728 -0.11493 -0.50728 E">
                                      <p:cBhvr>
                                        <p:cTn id="10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583 -0.31075 L -0.0625 -0.18867 L 0.1625 0.18867 L 0.4375 -0.07769 L 0.42916 -0.53272 L 0.1625 -0.58821 L -0.07934 -0.67699 L -0.25434 -0.6548 L -0.30417 -0.75468 L -0.3375 -0.73249 L -0.38768 -0.71029 L -0.4125 -0.71029 L -0.40417 -0.6659 L -0.34601 -0.6659 L -0.30417 -0.6437 L -0.32917 -0.59931 L -0.37917 -0.6215 L -0.39584 -0.6104 L -0.42917 -0.54381 L -0.37917 -0.52162 L -0.32917 -0.57711 L -0.2375 -0.52162 L -0.25434 -0.44393 L -0.35417 -0.43283 L -0.37917 -0.37734 C -0.37361 -0.35514 -0.36927 -0.33225 -0.3625 -0.31075 C -0.36181 -0.30867 -0.35938 -0.30983 -0.35782 -0.30913 C -0.34809 -0.3052 -0.33907 -0.30035 -0.32917 -0.29642 C -0.32448 -0.29457 -0.31771 -0.29202 -0.31337 -0.28809 C -0.31025 -0.28532 -0.30382 -0.27954 -0.30382 -0.27954 L -0.19584 -0.28855 L -0.05417 -0.15538 C -0.10139 -0.12948 -0.14775 -0.10081 -0.19584 -0.07769 C -0.19983 -0.07584 -0.20417 -0.08116 -0.20851 -0.08092 C -0.21042 -0.08069 -0.21841 -0.06936 -0.22118 -0.06821 C -0.23594 -0.06266 -0.23802 -0.06405 -0.25313 -0.06405 L -0.37917 -0.0222 L -0.39584 0.06659 L -0.4125 0.15538 L -0.3625 0.21087 L -0.3125 0.17757 C -0.31528 0.16647 -0.31962 0.15584 -0.32084 0.14428 C -0.32118 0.14173 -0.31823 0.14035 -0.3165 0.13896 C -0.3125 0.13572 -0.30712 0.13503 -0.30382 0.13064 C -0.29723 0.12185 -0.29462 0.1096 -0.28785 0.10104 C -0.28681 0.09827 -0.28611 0.09503 -0.28473 0.09249 C -0.28299 0.08925 -0.27986 0.0874 -0.2783 0.08393 C -0.27657 0.08023 -0.27518 0.07145 -0.27518 0.07145 L -0.24584 0.0111 C -0.21806 0.0074 -0.19028 0.00324 -0.1625 -3.46821E-007 C -0.15782 -0.00046 -0.15295 -0.00185 -0.14827 -0.00046 C -0.14723 -0.00023 -0.13264 0.00971 -0.12917 0.01225 C -0.12049 0.01827 -0.11164 0.02081 -0.10382 0.02913 C -0.09358 0.04046 -0.08664 0.05017 -0.07205 0.05017 L -0.04584 0.09988 C -0.04289 0.12 -0.04306 0.14127 -0.03716 0.16023 C -0.03542 0.16601 -0.02448 0.16856 -0.02448 0.16856 C -0.01806 0.1852 -0.00573 0.19029 0.00729 0.19399 C 0.01267 0.19561 0.02326 0.19815 0.02326 0.19815 L 0.2125 0.19977 L 0.30416 0.15538 L 0.40416 0.17757 C 0.41684 0.18173 0.43003 0.18335 0.44218 0.18983 C 0.46007 0.19954 0.47639 0.21942 0.49618 0.21942 L 0.5625 0.18867 C 0.5467 0.13965 0.54531 0.11376 0.5184 0.08832 C 0.51041 0.08069 0.50434 0.07006 0.49618 0.06289 C 0.4934 0.06035 0.48975 0.06058 0.48663 0.05873 C 0.48229 0.05619 0.47396 0.05017 0.47396 0.05017 C 0.46649 0.05156 0.45868 0.05064 0.45173 0.05434 C 0.44757 0.05665 0.44531 0.06289 0.44218 0.06705 C 0.44114 0.06844 0.4401 0.07006 0.43906 0.07145 C 0.43698 0.07422 0.43489 0.07699 0.43281 0.07977 C 0.41024 0.10983 0.43819 0.08856 0.41996 0.10104 C 0.41614 0.11145 0.41024 0.11815 0.40416 0.12624 C 0.39583 0.12856 0.38767 0.13202 0.37916 0.13318 C 0.37586 0.13364 0.37257 0.1304 0.36927 0.13064 C 0.35677 0.13133 0.34323 0.13919 0.33107 0.14312 C 0.32048 0.14173 0.30989 0.14127 0.29948 0.13896 C 0.29705 0.1385 0.29305 0.1348 0.29305 0.1348 L 0.27066 0.09988 L 0.29583 -0.03329 L 0.25399 -0.12208 L 0.14583 -0.09988 L 0.07916 -0.08879 L 0.0875 -0.14428 L 0.19583 -0.21087 L 0.37916 -0.32185 C 0.28333 -0.42127 0.32864 -0.39792 0.21684 -0.39792 C 0.13767 -0.4 0.16198 -0.37572 0.15017 -0.42335 C 0.1533 -0.43884 0.15503 -0.45503 0.15972 -0.46983 C 0.16545 -0.48763 0.18646 -0.49457 0.19774 -0.50358 C 0.21875 -0.52023 0.23107 -0.5341 0.25503 -0.54173 C 0.26527 -0.54844 0.27534 -0.55006 0.28663 -0.55006 C 0.29809 -0.55168 0.30937 -0.55491 0.32083 -0.55491 C 0.33142 -0.55491 0.33281 -0.55006 0.34062 -0.5459 C 0.35034 -0.54081 0.35503 -0.54058 0.36614 -0.53757 C 0.37239 -0.52879 0.39201 -0.52046 0.40104 -0.52046 L 0.5125 -0.43283 C 0.41666 -0.46751 0.34444 -0.51214 0.25173 -0.51214 L 0.0625 -0.55491 L 0.82916 0.36624 L -0.0625 0.16647 L -0.12084 0.21087 L -0.35417 -0.09988 L -0.0125 -0.0222 L 0.22916 -0.07769 L 0.40416 -0.04439 L 0.3875 -3.46821E-007 L 0.85416 0.37734 E">
                                      <p:cBhvr>
                                        <p:cTn id="14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00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295280" y="380880"/>
            <a:ext cx="723924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You Win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/>
          <p:nvPr/>
        </p:nvSpPr>
        <p:spPr>
          <a:xfrm rot="19433400">
            <a:off x="380520" y="3962160"/>
            <a:ext cx="2514600" cy="243828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863600">
            <a:off x="5790960" y="3733920"/>
            <a:ext cx="2971800" cy="2590560"/>
          </a:xfrm>
          <a:custGeom>
            <a:avLst/>
            <a:gdLst>
              <a:gd name="textAreaLeft" fmla="*/ 698400 w 2971800"/>
              <a:gd name="textAreaRight" fmla="*/ 2271240 w 2971800"/>
              <a:gd name="textAreaTop" fmla="*/ 304560 h 2590560"/>
              <a:gd name="textAreaBottom" fmla="*/ 1625040 h 2590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2819520"/>
            <a:ext cx="2819520" cy="15238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right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50000">
              <a:srgbClr val="808080"/>
            </a:gs>
            <a:gs pos="100000">
              <a:srgbClr val="33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533520" y="304920"/>
            <a:ext cx="80769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You Lose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4419720"/>
            <a:ext cx="2286000" cy="2057400"/>
          </a:xfrm>
          <a:prstGeom prst="smileyFace">
            <a:avLst>
              <a:gd name="adj" fmla="val -4652"/>
            </a:avLst>
          </a:prstGeom>
          <a:solidFill>
            <a:srgbClr val="ffffff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2895480"/>
            <a:ext cx="3505320" cy="1676520"/>
          </a:xfrm>
          <a:prstGeom prst="cloudCallout">
            <a:avLst>
              <a:gd name="adj1" fmla="val -44699"/>
              <a:gd name="adj2" fmla="val 69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www. Dar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00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0" y="914400"/>
            <a:ext cx="8839080" cy="3165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ank You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lay Again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">
            <a:hlinkClick r:id="" action="ppaction://hlinkshowjump?jump=firstslide"/>
          </p:cNvPr>
          <p:cNvSpPr/>
          <p:nvPr/>
        </p:nvSpPr>
        <p:spPr>
          <a:xfrm>
            <a:off x="2895480" y="4191120"/>
            <a:ext cx="3276720" cy="2361960"/>
          </a:xfrm>
          <a:prstGeom prst="sun">
            <a:avLst>
              <a:gd name="adj" fmla="val 25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876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su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14:21:51Z</dcterms:created>
  <dc:creator>CGB</dc:creator>
  <dc:description/>
  <dc:language>en-US</dc:language>
  <cp:lastModifiedBy>CGB</cp:lastModifiedBy>
  <dcterms:modified xsi:type="dcterms:W3CDTF">2008-06-11T14:07:47Z</dcterms:modified>
  <cp:revision>5</cp:revision>
  <dc:subject/>
  <dc:title>Slide 1</dc:title>
</cp:coreProperties>
</file>